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593-8C15-486D-B5E0-42D1BE00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552-87C7-4557-8253-78B0917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836-587C-4BC0-A612-909E83CF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26D-4403-465A-9374-20B00ED1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EC1-8436-4946-BA26-077E1DEF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97A-83DE-44F3-8C77-30C1288C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8D8-89EE-4935-90EA-993AD8B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B0B-673D-441D-B660-74CFF23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3FD-CFBC-4834-A588-77F246F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3CE-3473-4A5E-8B5A-FFBB315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278-507A-472A-A972-3116F282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C78-EA7C-44AA-B4BC-D2FE902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DDF-8710-49D3-9BDC-76F98DB5D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.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 Adulto y del Anc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H/SIDA y otras infeccione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. Daños a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. Seguro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Derechohab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unciones Hospital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. Histórico 2001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Humanos, Físicos y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años a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stación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unciones Hospital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ara Mor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sta Mexicana II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ara Mort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II. Recursos para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Físicos y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22:49:47Z</dcterms:created>
  <dc:creator>ALICIA MERCADO</dc:creator>
  <dc:description/>
  <dc:language>en-US</dc:language>
  <cp:lastModifiedBy>Juan Carlos Riveros Alva</cp:lastModifiedBy>
  <dcterms:modified xsi:type="dcterms:W3CDTF">2006-10-25T16:30:36Z</dcterms:modified>
  <cp:revision>28</cp:revision>
  <dc:subject/>
  <dc:title>IV. Servicios otorgados</dc:title>
</cp:coreProperties>
</file>