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11D3-D9CA-41A3-8742-34939DC6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00B-B92F-4C05-825E-89F0C8F0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788-3F52-4459-A558-6660E69D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296F-4E01-4156-9257-5D33C48D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8AA-8616-4E78-BCBD-15246FB4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8E9-DD19-46BC-BB75-DFC223A0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185-EC05-45E0-8118-4D43F7CB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4DB-1C4B-4970-A7C9-5790ED52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D21-3AE6-465C-8D8B-A3134ABB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605-D14F-42CB-896B-055B8BCC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6CFC-4D3B-4CD8-9642-1BE7AA98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F05-7832-4BE9-96A5-F5FE9311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B56A-8EEA-40D3-B1A9-A1ECB7303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371600"/>
            <a:ext cx="5410080" cy="71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ETÍ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FORMA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D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AS SUSTAN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ÚME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V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UM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III                                 AÑO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064960" y="1087560"/>
            <a:ext cx="2737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25760" y="1812960"/>
            <a:ext cx="181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CRETARÍA DE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34400" y="1989000"/>
            <a:ext cx="179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. JULIO FRENK M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0720" y="2163600"/>
            <a:ext cx="992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CRE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30680" y="2924280"/>
            <a:ext cx="201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MEXICANO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97880" y="3098880"/>
            <a:ext cx="12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GURO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31560" y="3624120"/>
            <a:ext cx="159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C. SANTIAGO  LE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52440" y="3798720"/>
            <a:ext cx="156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47600" y="2924280"/>
            <a:ext cx="216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DE SEGURIDAD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95760" y="3098880"/>
            <a:ext cx="226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RVICIOS SOCIALES DE 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78120" y="3273480"/>
            <a:ext cx="229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RABAJADORES DEL ES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46360" y="3624120"/>
            <a:ext cx="256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C. BENJAMÍN GONZÁLEZ ROA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41720" y="3798720"/>
            <a:ext cx="156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9640" y="4151160"/>
            <a:ext cx="208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STEMA NACIONAL PAR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82600" y="415116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95480" y="4324320"/>
            <a:ext cx="188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SARROLLO INTEG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80320" y="4500720"/>
            <a:ext cx="111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 LA FAM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1760" y="4851360"/>
            <a:ext cx="255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. ANA TERESA ARANDA OROZ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2760" y="5025960"/>
            <a:ext cx="167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RA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82040" y="4151160"/>
            <a:ext cx="149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CRETARÍA D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9560" y="4324320"/>
            <a:ext cx="157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FENSA 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22920" y="4851360"/>
            <a:ext cx="185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AL. DE BRIGADA M. 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78400" y="5025960"/>
            <a:ext cx="292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RBERTO MANUEL HEREDIA JAR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6680" y="5200560"/>
            <a:ext cx="182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R GENERAL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87960" y="5376960"/>
            <a:ext cx="132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ANIDAD MILI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46520" y="5729400"/>
            <a:ext cx="198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IRECCIÓN  GENERAL 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86360" y="5902200"/>
            <a:ext cx="130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ANIDAD  NA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21680" y="6427800"/>
            <a:ext cx="207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TRALMIRANTE S.N.M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9200" y="6603840"/>
            <a:ext cx="247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RLOS ENRÍQUE GÓMEZ LL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16040" y="6778800"/>
            <a:ext cx="84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 TAVIZ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71200" y="6953400"/>
            <a:ext cx="233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R GENERAL ADJU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8880" y="7129440"/>
            <a:ext cx="147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SANIDAD NA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54880" y="572940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NACIONAL 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20960" y="5902200"/>
            <a:ext cx="221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DÍSTICA, GEOGRAFÍA 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94440" y="6076800"/>
            <a:ext cx="106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01800" y="6427800"/>
            <a:ext cx="255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CT. JAVIER GUTIÉRREZ GUZMÁ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14280" y="6603840"/>
            <a:ext cx="182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R GENERAL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25040" y="6778800"/>
            <a:ext cx="100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AD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58080" y="7655040"/>
            <a:ext cx="1951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ETRÓLEOS  MEXIC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84240" y="8005680"/>
            <a:ext cx="30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. JOSÉ LUIS DESCHAMPS CONTRE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80040" y="8180280"/>
            <a:ext cx="186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UNIDAD DE PLANE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4920" y="8356680"/>
            <a:ext cx="232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RMATIVIDAD E INNOV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92040" y="777960"/>
            <a:ext cx="247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STEMA  NACIONAL  DE 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06360" y="1127160"/>
            <a:ext cx="444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GRUPO INTERINSTITUCIONAL DE INFORMACIÓN EN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25760" y="1655640"/>
            <a:ext cx="181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CRETARÍA DE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28040" y="2004840"/>
            <a:ext cx="241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. RAFAEL LOZANO ASCEN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44400" y="2181240"/>
            <a:ext cx="197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ORDINADOR 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2666880"/>
            <a:ext cx="170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C. RAUL WONG LU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88400" y="2881440"/>
            <a:ext cx="172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CRETARIO TÉ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65440" y="3583080"/>
            <a:ext cx="333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MEXICANO DEL SEGURO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62520" y="3757680"/>
            <a:ext cx="254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ÉGIMEN DE SEGURIDAD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70440" y="4108320"/>
            <a:ext cx="254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A. SONIA FERNÁNDEZ CANT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74960" y="4282920"/>
            <a:ext cx="2919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EFE DE LA DIVISIÓN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20000" y="4459320"/>
            <a:ext cx="182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ÉDICA Y DESARRO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65440" y="5159520"/>
            <a:ext cx="333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MEXICANO DEL SEGURO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99760" y="5335560"/>
            <a:ext cx="206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ÉGIMEN DE SOLIDAR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76640" y="5686560"/>
            <a:ext cx="229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. MARIO MUNGUÍA RAMÍ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8440" y="5861160"/>
            <a:ext cx="213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ITULAR DE LA DIVISIÓN 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55480" y="6035760"/>
            <a:ext cx="215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NEACIÓN Y EVALU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04800" y="6737400"/>
            <a:ext cx="385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DE SEGURIDAD Y SERVICIOS SO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77840" y="6912000"/>
            <a:ext cx="290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 LOS TRABAJADORES DEL ES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7120" y="7262640"/>
            <a:ext cx="219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C. HILDA MORALES MOL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54200" y="7439040"/>
            <a:ext cx="175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EFE DE SERVICIOS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10480" y="7613640"/>
            <a:ext cx="224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ADÍSTICA  INSTITU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80120" y="762120"/>
            <a:ext cx="1951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ETRÓLEOS  MEXIC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61520" y="1111320"/>
            <a:ext cx="258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. DELFINO GARCÍA HERNÁND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7800" y="1287360"/>
            <a:ext cx="2535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ORDINADOR  DE  PROGRA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4000" y="1461960"/>
            <a:ext cx="178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ÉDICO PREVEN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00520" y="2163600"/>
            <a:ext cx="310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CRETARÍA DE LA DEFENSA 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15200" y="2514600"/>
            <a:ext cx="328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YOR M. C. ARIADNA MA. POZOS VIC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20560" y="2689200"/>
            <a:ext cx="410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EFA DE LA SECCIÓN DE PLANEACIÓN Y SUPERV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64280" y="3389400"/>
            <a:ext cx="198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CRETARÍA  DE  MA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8120" y="3740040"/>
            <a:ext cx="2995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IENTE DE CORBETA S N. M C. M S 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76040" y="3916440"/>
            <a:ext cx="315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A. ASUNCIÓN E. CERVANTES SALG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8680" y="4091040"/>
            <a:ext cx="374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BDIRECTORA DE MEDICINA PREVENTIVA D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78200" y="4265640"/>
            <a:ext cx="31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CIÓN GENERAL DE SANIDAD NA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6120" y="4967280"/>
            <a:ext cx="204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STEMA NACIONAL PA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78040" y="49672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32920" y="5141880"/>
            <a:ext cx="3048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SARROLLO INTEGRAL DE LA FAM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16080" y="5492880"/>
            <a:ext cx="257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. VÍCTOR E. BÁEZ VÁZQU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39040" y="5715000"/>
            <a:ext cx="458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EFE DEL DEPARTAMENTO DE EVALUACIÓN PROGRA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3080" y="6369120"/>
            <a:ext cx="300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NACIONAL DE ESTADÍSTIC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68880" y="6545160"/>
            <a:ext cx="217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GEOGRAFÍA 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90960" y="6894360"/>
            <a:ext cx="273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CT. ANTONIO ESCOBEDO AGUIR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57720" y="7070760"/>
            <a:ext cx="219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R DE ESTADÍST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59880" y="7245360"/>
            <a:ext cx="219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MOGRÁFICAS Y SO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457200"/>
            <a:ext cx="2895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868680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2438280"/>
            <a:ext cx="55623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ORDINADORE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r. Rafael Lozano Ascen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ic. Raúl Wong Lu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ORDINACIÓN DE EDI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ic. María Victoria Castro Borbo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POYO TÉ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eatriz E. Escobedo de la Pe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ibia G. Cid Sánch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a. Del Pilar Fragoso Mol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her Silva Fl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V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raciela Benítez Gran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icia García Cornej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35040" y="5506920"/>
            <a:ext cx="2090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SECRETARÍA DE SALUD, 2002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1160" y="5813280"/>
            <a:ext cx="4217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Dirección General de Información y Evaluación del Desempeñ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9400" y="5973840"/>
            <a:ext cx="349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Av. Paseo de la Reforma No. 450-11o. piso, Col. Juáre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8280" y="6135840"/>
            <a:ext cx="828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éxico, D. F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3320" y="6616800"/>
            <a:ext cx="526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La  Secretaría de Salud pone a disposición de los usuarios la información en el WE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5160" y="6778800"/>
            <a:ext cx="166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ttp://www.salud.gob.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2560" y="7162920"/>
            <a:ext cx="368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Boletín de Información Estadística No. 20  Vol. III,  2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2280" y="7321680"/>
            <a:ext cx="2410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SBN 970-721-048-6 (Obra complet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5160" y="7483320"/>
            <a:ext cx="201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SBN 970-721-051-6 (Volume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9760" y="7748640"/>
            <a:ext cx="5569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Se autoriza la reproducción parcial o total de la información contenida en esta publica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" y="7908840"/>
            <a:ext cx="220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siempre y cuando se cite  la fuen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7:35:03Z</dcterms:created>
  <dc:creator>Dirección de Estadística</dc:creator>
  <dc:description/>
  <dc:language>en-US</dc:language>
  <cp:lastModifiedBy>Dirección de Estadística</cp:lastModifiedBy>
  <cp:lastPrinted>2002-11-27T20:41:00Z</cp:lastPrinted>
  <dcterms:modified xsi:type="dcterms:W3CDTF">2004-04-29T16:09:55Z</dcterms:modified>
  <cp:revision>12</cp:revision>
  <dc:subject/>
  <dc:title>Sin título de diapositiva</dc:title>
</cp:coreProperties>
</file>