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0880" y="228600"/>
            <a:ext cx="6096240" cy="8610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62120" y="762120"/>
            <a:ext cx="2666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622840" y="865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53352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33520"/>
            <a:ext cx="5867280" cy="82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2514600" cy="59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NDIC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Salud  Perina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prenatales por embarazadas atendi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embarazadas captadas en el 1° Trime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embarazadas de alto ries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de control prenatal 1a. vez/subsecu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mbarazadas atendidas por mil MEF  1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 por puérpera atendi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uérperas/Eventos obstétr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nacimientos por ces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nacidos vivos de bajo pe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cimientos atendidos por mil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cidos vivos por mil habi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uertes intrauterinas por mil nacidos v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uertes maternas por diez mil nacidos v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Planificación Fam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por mil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intervenciones quirúrgicas en homb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vasectomías sin bistur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uevas aceptantes por mil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uarias Activas por mil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usuarias activas con método defini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usuarias activas con D.I.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usuarias activas con método horm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lud de la Muj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CaCu por mil MEF   1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displasias  respecto a detecciones de Ca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positivas de CaCu por mil 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cáncer de mama por mil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  De  Población  Poten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58672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RMULAS UTILIZADAS PARA LA CONSTRUCCION DE INDICADO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SALUD  REPRODUCTIVA  Y  DE  LA  MUJ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1854360"/>
            <a:ext cx="32958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tal Cons. Ext. Prenatal/Cons. Prenatal de 1a. V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de 1a.Vez en el 1° trim. Gestal./Cons.Prenat.de 1a.vez por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mbarazadas de alto riesgo/Cons.prenatal de 1° vez por c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 Prenatal de 1° vez/Cons. Prenatal subsecu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  Prenatal de 1° vez /MEF  por 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tal de cons. a puérperas/Cons. de 1° vez a puérp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 de 1° vez a puérperas/Nacimientos atendi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esáreas/Nacimientos atendidos por c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cidos vivos &lt; 2,500 gr./Nacidos vivos por  c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tal de nacimientos atendidos/MEF por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cidos vivos/Población legal  por 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tal de muertes intrauterinas / Total de nacidos vivos por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uertes maternas/Nacidos vivos por  diez 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 de planificación familiar/MEF  por 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tervs. Quirúrgicas en hombres/Total de intervenc. Quirúrg.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Intervs. Quirúrgicas en hombres sin bisturí/Interv.Quirúrg en hombres por c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uevas aceptantes por método/MEF  por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uarias Activas por método/MEF  por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uarias activas por método quirúrg./Usu.activas por métod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por 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Usuarias activas por método D.I.U./Usuarias activas por método por c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Usuarias activas por método hormonal/Usuarias activas por método por cie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CaCu/MEF  por 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displasias de CaCu/Detecciones de CaCu por c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positivas de CaCu/Detecciones de Cacu  por m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cáncer mamario/MEF  por  mi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228600"/>
            <a:ext cx="6096240" cy="8610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762120"/>
            <a:ext cx="2666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22840" y="865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2641680"/>
            <a:ext cx="251460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INDIC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Consulta a Niño S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 por  ni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&lt;  de  1  a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 1  a  4 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imera  vez/ Subsecu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&lt;  de  1  a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 1  a  4  año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Nutr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consultas  con desnutr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evalencia de desnutrición moderada y se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Enfermedad Diarre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casos con deshidra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obres por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Infecciones Respiratorias Agu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 de casos de neumon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666880"/>
            <a:ext cx="329544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ORMU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de 1° vez a niño &lt; de 1 año/Total de cons. a niño s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de 1° vez a niño de 1 a 4 años/Total de cons. a niño s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de 1° vez a niño &lt; de 1 año/Cons. Subsec. a niño &lt; 1 a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de 1° vez a niño de 1 a 4 años/Cons.Subsec.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a niñ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&lt;1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Cons.en niños &lt;de 5 años con desnut./Total de cons.en niños &lt;5 años por 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Cons.en niños &lt;de 5 años con desnut. Moderada más cons.en niños &lt; 5 añ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con desnutrición severa/Total de cons. en niños &lt; 5 años por mi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enores deshidratados/Niños atendidos de enfermedad diarreica  por 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obres de hidratación oral repartidos/Niños atendidos de enf.diarreica por 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sos de neumonía/Niños atendidos de IRA’S  por 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90720"/>
            <a:ext cx="58672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RMULAS UTILIZADAS PARA LA CONSTRUCCION DE INDICADO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ATENCION  A  LA  SALUD  DEL  NIÑ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8600"/>
            <a:ext cx="6096240" cy="8610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22840" y="865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2641680"/>
            <a:ext cx="251460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INDIC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abetes  Melli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etecciones por  mil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Hipertensión  Ar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etecciones por  mil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en control  por mil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Relación ingresos / Casos en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lud  Buc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nsultas por  mil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nsulta primera vez / Subsecu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tenciones preventivas por  mil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tenciones curativas  por  mil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666880"/>
            <a:ext cx="329544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ORMU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etecciones / Población  legal  por  m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etecciones / Población  legal  por  m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en control / Población  legal  por  m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gresos a control / Casos en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otal  de consultas / Población legal por m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nsulta de  1° vez / Subsecu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tenciones preventivas / Población legal por m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tenciones curativas / Población usuaria  por  m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066680"/>
            <a:ext cx="5867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RMULAS UTILIZADAS PARA LA CONSTRUCCION DE INDICADO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ATENCION  A  LA  SALUD  DEL  ADULTO Y  DEL  ANCIA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6096240" cy="8610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762120"/>
            <a:ext cx="2666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2840" y="865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33520"/>
            <a:ext cx="5867280" cy="81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160" y="2641680"/>
            <a:ext cx="251460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INDIC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etecciones por  mil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en control  por  mil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Relación ingresos / Casos en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%  de casos en control  T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Le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registrados  por  mil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Relación ingresos / Casos registr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%  de vigilancia pos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329544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ORMU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otal de detecciones / Población  legal  por  m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en tratamiento / Población  legal  por  m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gresos a control / Casos en 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en tratamiento  / TAES   por  ci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registrados / Población  legal  por  m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gresos a control / Casos en 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igilancia postratamiento / Casos registrados por ci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066680"/>
            <a:ext cx="5791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RMULAS UTILIZADAS PARA LA CONSTRUCCION DE INDICADO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M I C O B A C T E R I O S I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15:58:34Z</dcterms:created>
  <dc:creator>,</dc:creator>
  <dc:description/>
  <dc:language>en-US</dc:language>
  <cp:lastModifiedBy>Dirección de Estadística</cp:lastModifiedBy>
  <cp:lastPrinted>2002-11-26T22:02:35Z</cp:lastPrinted>
  <dcterms:modified xsi:type="dcterms:W3CDTF">2004-04-29T16:16:00Z</dcterms:modified>
  <cp:revision>116</cp:revision>
  <dc:subject/>
  <dc:title>A partir de este año el presupuesto se presenta por Función, Subfunción y Actividad Institucional debido a que cambió la  apertura programática vigente. Las claves que  se incluyen corresponden a la Actividad Institucional y están conformadas de acuerdo al ejemplo siguiente:</dc:title>
</cp:coreProperties>
</file>