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20" y="792000"/>
            <a:ext cx="91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71280" y="2286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resos y defunciones hospitalarias, análisis sectorial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468360" y="1150920"/>
          <a:ext cx="844704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0920"/>
                    <a:ext cx="844704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1258920" y="2924280"/>
            <a:ext cx="6880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40360" y="2681280"/>
            <a:ext cx="90792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62,8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1.4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3080" y="342900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55800" y="342900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8240" y="346248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5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54560" y="34495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88040" y="34495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.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24400" y="344952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2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90920" y="3449520"/>
            <a:ext cx="70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18.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12240" y="346248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9160" y="234936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5520" y="232740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79320" y="229392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54280" y="227664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25040" y="229392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12880" y="229392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04600" y="229392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D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99280" y="346248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0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8560" y="3716280"/>
            <a:ext cx="1301760" cy="515160"/>
            <a:chOff x="178560" y="3716280"/>
            <a:chExt cx="1301760" cy="515160"/>
          </a:xfrm>
        </p:grpSpPr>
        <p:sp>
          <p:nvSpPr>
            <p:cNvPr id="59" name=""/>
            <p:cNvSpPr/>
            <p:nvPr/>
          </p:nvSpPr>
          <p:spPr>
            <a:xfrm>
              <a:off x="255600" y="372096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8560" y="3716280"/>
              <a:ext cx="1301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Defuncion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468360" y="4086360"/>
          <a:ext cx="840888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086360"/>
                    <a:ext cx="84088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 flipV="1">
            <a:off x="1258920" y="5859000"/>
            <a:ext cx="6842160" cy="1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68800" y="5616720"/>
            <a:ext cx="907920" cy="4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8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355680"/>
                <a:tab algn="l" pos="7113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 0.7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7440" y="6364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17640" y="636444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78240" y="639756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4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4400" y="63849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5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61120" y="63849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0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75160" y="639756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2760" y="638496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-11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98480" y="6397560"/>
            <a:ext cx="78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10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50440" y="5229360"/>
            <a:ext cx="964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cretarí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5229360"/>
            <a:ext cx="1266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79320" y="522936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3040" y="5229360"/>
            <a:ext cx="73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25040" y="5229360"/>
            <a:ext cx="716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EM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12880" y="5229360"/>
            <a:ext cx="55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5280" y="5229360"/>
            <a:ext cx="8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ED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1120" y="639756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+8.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4240" y="907920"/>
            <a:ext cx="1310760" cy="515160"/>
            <a:chOff x="174240" y="907920"/>
            <a:chExt cx="1310760" cy="515160"/>
          </a:xfrm>
        </p:grpSpPr>
        <p:sp>
          <p:nvSpPr>
            <p:cNvPr id="82" name=""/>
            <p:cNvSpPr/>
            <p:nvPr/>
          </p:nvSpPr>
          <p:spPr>
            <a:xfrm>
              <a:off x="255600" y="912600"/>
              <a:ext cx="1150920" cy="50004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4240" y="907920"/>
              <a:ext cx="131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gr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ospitalar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9:21:49Z</dcterms:created>
  <dc:creator>SABRITAS S.A DE C.V.</dc:creator>
  <dc:description/>
  <dc:language>en-US</dc:language>
  <cp:lastModifiedBy>DCASTRO</cp:lastModifiedBy>
  <cp:lastPrinted>2000-04-05T18:51:26Z</cp:lastPrinted>
  <dcterms:modified xsi:type="dcterms:W3CDTF">2005-10-31T17:32:55Z</dcterms:modified>
  <cp:revision>62</cp:revision>
  <dc:subject/>
  <dc:title>Sin título de diapositiva</dc:title>
</cp:coreProperties>
</file>